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765-2733-4812-83D1-74D23829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CB6-9CB4-4E8E-9CF2-AECD5394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051-9D23-4782-B9FE-3D8E2A72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280-9783-479F-B750-49B1C11D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2E2-7515-4E2B-A6E0-9269EF20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29E-68F2-4918-8B3C-FE3BA323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0A7-8772-4746-BE31-C2CB6635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0F1-0EC3-4219-84FF-7CA590C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CDD-57E2-4C1B-B250-219C9F7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106-E94D-4BCB-AEAF-DD8B6ED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3E0-9B1E-42FD-B46A-86105CF8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6B4-594B-48F7-96B4-85A7D8EF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64f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a5c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5c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a5c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a5c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a5c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a5c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a5c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a5c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a5cd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a5cd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a5cd5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a5c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5ADC-21BC-4B7E-B50F-6584D81EA5C3}" type="slidenum">
              <a:rPr b="0" lang="en-US" sz="1400" spc="-1" strike="noStrike">
                <a:solidFill>
                  <a:srgbClr val="6a5cd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64f4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By.Alexus Ragan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7</a:t>
            </a:r>
            <a:r>
              <a:rPr b="0" lang="en-US" sz="2800" spc="-1" strike="noStrike" baseline="50000">
                <a:solidFill>
                  <a:srgbClr val="6a5cd5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6a5cd5"/>
                </a:solidFill>
                <a:latin typeface="Arial"/>
              </a:rPr>
              <a:t>Period</a:t>
            </a:r>
            <a:endParaRPr b="0" lang="en-US" sz="2800" spc="-1" strike="noStrike">
              <a:solidFill>
                <a:srgbClr val="6a5cd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a800"/>
                </a:solidFill>
                <a:latin typeface="Kino MT"/>
              </a:rPr>
              <a:t>About 11,000 kilometers east,halfway between Hawaii and Fiji, lies the little known nation of Kiribati</a:t>
            </a:r>
            <a:endParaRPr b="0" lang="en-US" sz="3800" spc="-1" strike="noStrike">
              <a:solidFill>
                <a:srgbClr val="5d64f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2851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69696"/>
                </a:solidFill>
                <a:latin typeface="Herculanum"/>
              </a:rPr>
              <a:t>Kiribati gained scientific notice when it recently set aside more than one-tenth of its territory to establish the worlds largest marine preserve harboring one the last pristine coral reef ecosystems.</a:t>
            </a:r>
            <a:endParaRPr b="0" lang="en-US" sz="2600" spc="-1" strike="noStrike">
              <a:solidFill>
                <a:srgbClr val="5d64f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49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07:05Z</dcterms:created>
  <dc:creator>PA Department of Education</dc:creator>
  <dc:description/>
  <dc:language>en-US</dc:language>
  <cp:lastModifiedBy>PA Department of Education</cp:lastModifiedBy>
  <dcterms:modified xsi:type="dcterms:W3CDTF">2009-05-21T17:41:54Z</dcterms:modified>
  <cp:revision>1</cp:revision>
  <dc:subject/>
  <dc:title>First Wave</dc:title>
</cp:coreProperties>
</file>